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B8F7E-10B0-4ECB-AF0B-8970528AF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CB361-CF80-4066-9CFD-983FF2762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DD83B-D870-46ED-9352-A3ADE04C7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4040F-F0F3-4D18-9A4B-1133CEB22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E62E4-8C21-4BDF-A405-BA6950FBD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30A15-AC80-4959-B172-0BA032A20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B76AF-5CCE-4DC3-91EC-EEECE75E2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079DF-5A04-4592-BC78-73DDA37DA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64C9C-12DA-4B2F-B923-A52462732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C3155-A61F-4128-A7AD-65995693C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CF5F3-A29E-4D6B-8222-127CAB46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DDA2-74DF-440B-A8A9-E703A5933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25F4-A7E4-44FF-929B-53746A9D8C87}"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280"/>
            <a:ext cx="7772400" cy="43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Urban Models For MED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arris And Ulman</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model was aimed at being more specific than the other two, however it also has become more compli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ris and Ullman still have a central CBD, but they also have other smaller centres performing specific functions that Hoyt and Burgess decided would have been found in and around the CB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Harris &amp;amp; Ullman also have a business centre, and industrial par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arris And Ulman</a:t>
            </a:r>
            <a:endParaRPr b="0" lang="en-US" sz="4400" spc="-1" strike="noStrike">
              <a:solidFill>
                <a:srgbClr val="000000"/>
              </a:solidFill>
              <a:latin typeface="Calibri"/>
            </a:endParaRPr>
          </a:p>
        </p:txBody>
      </p:sp>
      <p:sp>
        <p:nvSpPr>
          <p:cNvPr id="6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ities do display some of these characteristi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ndon</a:t>
            </a:r>
            <a:r>
              <a:rPr b="0" lang="en-US" sz="2800" spc="-1" strike="noStrike">
                <a:solidFill>
                  <a:srgbClr val="000000"/>
                </a:solidFill>
                <a:latin typeface="Calibri"/>
              </a:rPr>
              <a:t> has different areas of its centre that have different functions: the City, Westminster, Oxford Street and the West End all have differing specific fun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don has also grown to engulf other towns and villages, which have become smaller CBD's within the whole of Greater Lond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CBD's act as growth poles, meaning that the city does not just grow from one central point, but from many spread around its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Are They?</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in geography models are used to try to explain something that we can see in the physical enviro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20</a:t>
            </a:r>
            <a:r>
              <a:rPr b="0" lang="en-US" sz="3200" spc="-1" strike="noStrike" baseline="30000">
                <a:solidFill>
                  <a:srgbClr val="000000"/>
                </a:solidFill>
                <a:latin typeface="Calibri"/>
              </a:rPr>
              <a:t>th</a:t>
            </a:r>
            <a:r>
              <a:rPr b="0" lang="en-US" sz="3200" spc="-1" strike="noStrike">
                <a:solidFill>
                  <a:srgbClr val="000000"/>
                </a:solidFill>
                <a:latin typeface="Calibri"/>
              </a:rPr>
              <a:t> century a number of models were developed to try to explain how urban areas grew.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models show a very general idea of the shape of the city, all of the ones described here have aspects that can be seen in most cities in the developed and developing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urgess</a:t>
            </a:r>
            <a:endParaRPr b="0" lang="en-US" sz="4400" spc="-1" strike="noStrike">
              <a:solidFill>
                <a:srgbClr val="000000"/>
              </a:solidFill>
              <a:latin typeface="Calibri"/>
            </a:endParaRPr>
          </a:p>
        </p:txBody>
      </p:sp>
      <p:pic>
        <p:nvPicPr>
          <p:cNvPr id="45" name="Picture 2" descr="http://www.success4dummies.com/wp-content/uploads/2009/07/burgess.gif"/>
          <p:cNvPicPr/>
          <p:nvPr/>
        </p:nvPicPr>
        <p:blipFill>
          <a:blip r:embed="rId1"/>
          <a:stretch/>
        </p:blipFill>
        <p:spPr>
          <a:xfrm>
            <a:off x="0" y="1268280"/>
            <a:ext cx="9144000" cy="522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urges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gess based his model on the city of Chicag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its core is the </a:t>
            </a:r>
            <a:r>
              <a:rPr b="1" lang="en-US" sz="2800" spc="-1" strike="noStrike">
                <a:solidFill>
                  <a:srgbClr val="000000"/>
                </a:solidFill>
                <a:latin typeface="Calibri"/>
              </a:rPr>
              <a:t>CBD</a:t>
            </a:r>
            <a:r>
              <a:rPr b="0" lang="en-US" sz="2800" spc="-1" strike="noStrike">
                <a:solidFill>
                  <a:srgbClr val="000000"/>
                </a:solidFill>
                <a:latin typeface="Calibri"/>
              </a:rPr>
              <a:t>, or </a:t>
            </a:r>
            <a:r>
              <a:rPr b="1" lang="en-US" sz="2800" spc="-1" strike="noStrike">
                <a:solidFill>
                  <a:srgbClr val="000000"/>
                </a:solidFill>
                <a:latin typeface="Calibri"/>
              </a:rPr>
              <a:t>Central Business Distric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the area with the highest land price, which could only be afforded by busines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ound this is the zone of transition, which is where industry locat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any cities in the UK, such as Birmingham, this zone can be quite easily identifi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in most cases the industry has moved out, leaving the zone empty and in need of renew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urges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yond the zone of transition are the rings of residential housing.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people became more wealthy they could afford to live further out of town, in bigger houses, with larger garden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houses closest to the centre originally would have housed the workers for the inner city industries.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ny British cities still have many of these terraced houses remaining.</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people moved away from the CBD, the houses closest to the centre would be taken by newly arrived immigrants to the city, either from elsewhere in the country or abroad.</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oyt’s Sector Model</a:t>
            </a:r>
            <a:endParaRPr b="0" lang="en-US" sz="4400" spc="-1" strike="noStrike">
              <a:solidFill>
                <a:srgbClr val="000000"/>
              </a:solidFill>
              <a:latin typeface="Calibri"/>
            </a:endParaRPr>
          </a:p>
        </p:txBody>
      </p:sp>
      <p:pic>
        <p:nvPicPr>
          <p:cNvPr id="51" name="Picture 2" descr="http://www.geography.learnontheinternet.co.uk/images/urban/hoyt.gif"/>
          <p:cNvPicPr/>
          <p:nvPr/>
        </p:nvPicPr>
        <p:blipFill>
          <a:blip r:embed="rId1"/>
          <a:stretch/>
        </p:blipFill>
        <p:spPr>
          <a:xfrm>
            <a:off x="0" y="155736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oyt</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ector model has a similar idea of a CBD to Burgess.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still the area with the highest land pric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oyt then used transport routes to determine where his other sectors would be located.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 still had a zone of transition around the CBD, but he also had industry fanning out from the centre along major transport routes.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 assumed that "Like would attract like", which is why he decided that land-uses would concentrate to form sectors, rather being in rings, like Burgess though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oyt</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west class housing would be closest to the industry, and probably be located where the prevailing winds would blow the pollution towards them (and away from the higher class ho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igh class housing also is in a sector of its own, running all the way from the CBD, where many of the residents would work, to the outer subur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arris And Ulman’s Multiple Nuclei Model</a:t>
            </a:r>
            <a:endParaRPr b="0" lang="en-US" sz="4000" spc="-1" strike="noStrike">
              <a:solidFill>
                <a:srgbClr val="000000"/>
              </a:solidFill>
              <a:latin typeface="Calibri"/>
            </a:endParaRPr>
          </a:p>
        </p:txBody>
      </p:sp>
      <p:pic>
        <p:nvPicPr>
          <p:cNvPr id="57" name="Picture 2" descr="http://upload.wikimedia.org/wikipedia/commons/thumb/b/b1/Ulman2.png/400px-Ulman2.png"/>
          <p:cNvPicPr/>
          <p:nvPr/>
        </p:nvPicPr>
        <p:blipFill>
          <a:blip r:embed="rId1"/>
          <a:stretch/>
        </p:blipFill>
        <p:spPr>
          <a:xfrm>
            <a:off x="1042920" y="1549440"/>
            <a:ext cx="7164360" cy="51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0:49:25Z</dcterms:created>
  <dc:creator>Dell_02</dc:creator>
  <dc:description/>
  <dc:language>en-US</dc:language>
  <cp:lastModifiedBy>Dell_02</cp:lastModifiedBy>
  <dcterms:modified xsi:type="dcterms:W3CDTF">2011-01-26T01:04:42Z</dcterms:modified>
  <cp:revision>2</cp:revision>
  <dc:subject/>
  <dc:title>Urban Models For MEDC’s</dc:title>
</cp:coreProperties>
</file>